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A6A9-BDC3-4EB7-BC9D-620B47ACD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CE11-6A1D-4593-AFDE-DB83703E7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8E23-F933-431E-BDC7-A7420F3C2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EEAF-23B0-4F21-9A00-97F4AFDB8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719F-FB7F-4153-9454-90E6AE1C9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182F-3E1B-4CCD-8B8E-E1A7D4A34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B899-E063-4F23-B4D2-9146B4C9B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197F-F0C4-44D7-85B4-CE85494B2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21CD-37C8-476C-B060-42074FBC5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4EFB-086D-42CB-A64A-B94523CD7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992A-A1BB-4733-8203-2CB62FFBD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A80D-5A57-49CA-A920-E2579BD0D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D5085-9811-46DE-9EB6-5BF74629B2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upetta la bell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ndré Bourvi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04 Houpetta la bella.m4a" descr=""/>
          <p:cNvPicPr/>
          <p:nvPr/>
        </p:nvPicPr>
        <p:blipFill>
          <a:blip r:embed="rId1"/>
          <a:stretch/>
        </p:blipFill>
        <p:spPr>
          <a:xfrm>
            <a:off x="4495680" y="5105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1"/>
          <p:cNvSpPr/>
          <p:nvPr/>
        </p:nvSpPr>
        <p:spPr>
          <a:xfrm>
            <a:off x="914400" y="685800"/>
            <a:ext cx="7924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h! hé!, oh! hé!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ll' s'app'lait Houpetta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1"/>
          <p:cNvSpPr/>
          <p:nvPr/>
        </p:nvSpPr>
        <p:spPr>
          <a:xfrm>
            <a:off x="914400" y="685800"/>
            <a:ext cx="7924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h! hé!, oh! hé!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ll' s'app'lait Houpetta,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etta-ci, petta-là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1"/>
          <p:cNvSpPr/>
          <p:nvPr/>
        </p:nvSpPr>
        <p:spPr>
          <a:xfrm>
            <a:off x="914400" y="685800"/>
            <a:ext cx="7924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h! hé!, oh! hé!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ll' s'app'lait Houpetta,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etta-ci, petta-là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etta-haut, petta-ba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1"/>
          <p:cNvSpPr/>
          <p:nvPr/>
        </p:nvSpPr>
        <p:spPr>
          <a:xfrm>
            <a:off x="914400" y="685800"/>
            <a:ext cx="7924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h! hé!, oh! hé!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ll' s'app'lait Houpetta,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etta-ci, petta-là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etta-haut, petta-ba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oupetta-la-bella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1"/>
          <p:cNvSpPr/>
          <p:nvPr/>
        </p:nvSpPr>
        <p:spPr>
          <a:xfrm>
            <a:off x="914400" y="685800"/>
            <a:ext cx="7924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h! hé!, oh! hé!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ll' s'app'lait Houpetta,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etta-ci, petta-là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etta-haut, petta-ba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oupetta-la-bella,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oupetta-la-bella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1"/>
          <p:cNvSpPr/>
          <p:nvPr/>
        </p:nvSpPr>
        <p:spPr>
          <a:xfrm>
            <a:off x="914400" y="685800"/>
            <a:ext cx="7924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h! hé!, oh! hé!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ll' s'app'lait Houpetta,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etta-ci, petta-là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etta-haut, petta-ba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oupetta-la-bella,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oupetta-la-bella,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oupetta, la mia bella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2"/>
          <p:cNvSpPr/>
          <p:nvPr/>
        </p:nvSpPr>
        <p:spPr>
          <a:xfrm>
            <a:off x="914400" y="685800"/>
            <a:ext cx="571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r son ân' elle allait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2"/>
          <p:cNvSpPr/>
          <p:nvPr/>
        </p:nvSpPr>
        <p:spPr>
          <a:xfrm>
            <a:off x="914400" y="685800"/>
            <a:ext cx="5715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r son ân' elle allait,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etta-ci, petta-là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Box 2"/>
          <p:cNvSpPr/>
          <p:nvPr/>
        </p:nvSpPr>
        <p:spPr>
          <a:xfrm>
            <a:off x="914400" y="685800"/>
            <a:ext cx="5715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r son ân' elle allait,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etta-ci, petta-là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etta-haut, petta-ba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2"/>
          <p:cNvSpPr/>
          <p:nvPr/>
        </p:nvSpPr>
        <p:spPr>
          <a:xfrm>
            <a:off x="914400" y="685800"/>
            <a:ext cx="5715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r son ân' elle allait,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etta-ci, petta-là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etta-haut, petta-ba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oupetta-la-bella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914400" y="685800"/>
            <a:ext cx="815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ans les montagnes en maraude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,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2"/>
          <p:cNvSpPr/>
          <p:nvPr/>
        </p:nvSpPr>
        <p:spPr>
          <a:xfrm>
            <a:off x="919800" y="4495680"/>
            <a:ext cx="173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 maraud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Box 2"/>
          <p:cNvSpPr/>
          <p:nvPr/>
        </p:nvSpPr>
        <p:spPr>
          <a:xfrm>
            <a:off x="914400" y="685800"/>
            <a:ext cx="5715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r son ân' elle allait,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etta-ci, petta-là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etta-haut, petta-ba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oupetta-la-bella,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oupetta-la-bella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Box 2"/>
          <p:cNvSpPr/>
          <p:nvPr/>
        </p:nvSpPr>
        <p:spPr>
          <a:xfrm>
            <a:off x="914400" y="685800"/>
            <a:ext cx="5715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r son ân' elle allait,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etta-ci, petta-là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etta-haut, petta-ba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oupetta-la-bella,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oupetta-la-bella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oupetta, la mia bella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1"/>
          <p:cNvSpPr/>
          <p:nvPr/>
        </p:nvSpPr>
        <p:spPr>
          <a:xfrm>
            <a:off x="914400" y="68580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e sa voix fraîche elle chantait 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1"/>
          <p:cNvSpPr/>
          <p:nvPr/>
        </p:nvSpPr>
        <p:spPr>
          <a:xfrm>
            <a:off x="914400" y="685800"/>
            <a:ext cx="8001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e sa voix fraîche elle chantait : coucou 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1"/>
          <p:cNvSpPr/>
          <p:nvPr/>
        </p:nvSpPr>
        <p:spPr>
          <a:xfrm>
            <a:off x="914400" y="685800"/>
            <a:ext cx="8001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e sa voix fraîche elle chantait : coucou !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u loin l'écho lui répondait 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1"/>
          <p:cNvSpPr/>
          <p:nvPr/>
        </p:nvSpPr>
        <p:spPr>
          <a:xfrm>
            <a:off x="914400" y="685800"/>
            <a:ext cx="8001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e sa voix fraîche elle chantait : coucou !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u loin l'écho lui répondait : coucou 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1"/>
          <p:cNvSpPr/>
          <p:nvPr/>
        </p:nvSpPr>
        <p:spPr>
          <a:xfrm>
            <a:off x="914400" y="685800"/>
            <a:ext cx="8001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e sa voix fraîche elle chantait : coucou !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u loin l'écho lui répondait : coucou !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Quand le petit âne faisait,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1"/>
          <p:cNvSpPr/>
          <p:nvPr/>
        </p:nvSpPr>
        <p:spPr>
          <a:xfrm>
            <a:off x="914400" y="685800"/>
            <a:ext cx="8001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e sa voix fraîche elle chantait : coucou !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u loin l'écho lui répondait : coucou !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Quand le petit âne faisait, hi! han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"/>
          <p:cNvSpPr/>
          <p:nvPr/>
        </p:nvSpPr>
        <p:spPr>
          <a:xfrm>
            <a:off x="914400" y="685800"/>
            <a:ext cx="8001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e sa voix fraîche elle chantait : coucou !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u loin l'écho lui répondait : coucou !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Quand le petit âne faisait, hi! han!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u loin l'écho lui répondait 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1"/>
          <p:cNvSpPr/>
          <p:nvPr/>
        </p:nvSpPr>
        <p:spPr>
          <a:xfrm>
            <a:off x="914400" y="685800"/>
            <a:ext cx="8001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e sa voix fraîche elle chantait : coucou !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u loin l'écho lui répondait : coucou !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Quand le petit âne faisait, hi! han!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u loin l'écho lui répondait 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a même chose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1"/>
          <p:cNvSpPr/>
          <p:nvPr/>
        </p:nvSpPr>
        <p:spPr>
          <a:xfrm>
            <a:off x="914400" y="685800"/>
            <a:ext cx="8153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ans les montagnes en maraude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,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a fille du contrebandier,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2"/>
          <p:cNvSpPr/>
          <p:nvPr/>
        </p:nvSpPr>
        <p:spPr>
          <a:xfrm>
            <a:off x="919800" y="4495680"/>
            <a:ext cx="173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 maraud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 smuggl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1"/>
          <p:cNvSpPr/>
          <p:nvPr/>
        </p:nvSpPr>
        <p:spPr>
          <a:xfrm>
            <a:off x="914400" y="68580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oucou-ci, coucou-là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1"/>
          <p:cNvSpPr/>
          <p:nvPr/>
        </p:nvSpPr>
        <p:spPr>
          <a:xfrm>
            <a:off x="914400" y="685800"/>
            <a:ext cx="8001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oucou-ci, coucou-là,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etta-ci, petta-là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"/>
          <p:cNvSpPr/>
          <p:nvPr/>
        </p:nvSpPr>
        <p:spPr>
          <a:xfrm>
            <a:off x="914400" y="685800"/>
            <a:ext cx="8001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oucou-ci, coucou-là,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etta-ci, petta-là;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'écho mêlait tout ç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1"/>
          <p:cNvSpPr/>
          <p:nvPr/>
        </p:nvSpPr>
        <p:spPr>
          <a:xfrm>
            <a:off x="914400" y="685800"/>
            <a:ext cx="8001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oucou-ci, coucou-là,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etta-ci, petta-là;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'écho mêlait tout ça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la belle Houpetta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1"/>
          <p:cNvSpPr/>
          <p:nvPr/>
        </p:nvSpPr>
        <p:spPr>
          <a:xfrm>
            <a:off x="914400" y="685800"/>
            <a:ext cx="8001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oucou-ci, coucou-là,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etta-ci, petta-là;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'écho mêlait tout ça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la belle Houpetta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h! ah! ah! .........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914400" y="685800"/>
            <a:ext cx="7696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is un beau jour elle se fit prendre,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921960" y="5646600"/>
            <a:ext cx="454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Calibri"/>
              <a:buAutoNum type="arabicPlain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as caught  se faire (to becom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"/>
          <p:cNvSpPr/>
          <p:nvPr/>
        </p:nvSpPr>
        <p:spPr>
          <a:xfrm>
            <a:off x="914400" y="685800"/>
            <a:ext cx="7696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is un beau jour elle se fit prendre,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8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ar un douanier,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9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un bien beau gars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Box 3"/>
          <p:cNvSpPr/>
          <p:nvPr/>
        </p:nvSpPr>
        <p:spPr>
          <a:xfrm>
            <a:off x="921960" y="5646600"/>
            <a:ext cx="454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Calibri"/>
              <a:buAutoNum type="arabicPlain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as caught  se faire (to becom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lain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ustoms ag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914400" y="685800"/>
            <a:ext cx="7696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is un beau jour elle se fit prendre,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8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ar un douanier,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9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un bien beau gars,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Qui lui a pris sans plus attendre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3"/>
          <p:cNvSpPr/>
          <p:nvPr/>
        </p:nvSpPr>
        <p:spPr>
          <a:xfrm>
            <a:off x="921960" y="5646600"/>
            <a:ext cx="454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Calibri"/>
              <a:buAutoNum type="arabicPlain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as caught  se faire (to becom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lain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ustoms ag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914400" y="685800"/>
            <a:ext cx="76960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is un beau jour elle se fit prendre,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8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ar un douanier,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9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un bien beau gars,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Qui lui a pris sans plus attendre,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out ce qu'elle avait comme tabac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Box 3"/>
          <p:cNvSpPr/>
          <p:nvPr/>
        </p:nvSpPr>
        <p:spPr>
          <a:xfrm>
            <a:off x="921960" y="5646600"/>
            <a:ext cx="454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Calibri"/>
              <a:buAutoNum type="arabicPlain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as caught  se faire (to becom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lain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ustoms ag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914400" y="685800"/>
            <a:ext cx="8229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n pleurant la contrebandièr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"/>
          <p:cNvSpPr/>
          <p:nvPr/>
        </p:nvSpPr>
        <p:spPr>
          <a:xfrm>
            <a:off x="914400" y="685800"/>
            <a:ext cx="81532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ans les montagnes en maraude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,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a fille du contrebandier,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r son p'tit ân'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portait en fraude4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2"/>
          <p:cNvSpPr/>
          <p:nvPr/>
        </p:nvSpPr>
        <p:spPr>
          <a:xfrm>
            <a:off x="919800" y="4495680"/>
            <a:ext cx="1739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 maraud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 smuggl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 donke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 in disgu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1"/>
          <p:cNvSpPr/>
          <p:nvPr/>
        </p:nvSpPr>
        <p:spPr>
          <a:xfrm>
            <a:off x="914400" y="685800"/>
            <a:ext cx="8229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n pleurant la contrebandièr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ui dit : "ne me fais pas de misères"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"/>
          <p:cNvSpPr/>
          <p:nvPr/>
        </p:nvSpPr>
        <p:spPr>
          <a:xfrm>
            <a:off x="914400" y="685800"/>
            <a:ext cx="685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h! hé!,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"/>
          <p:cNvSpPr/>
          <p:nvPr/>
        </p:nvSpPr>
        <p:spPr>
          <a:xfrm>
            <a:off x="914400" y="685800"/>
            <a:ext cx="685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h! hé!, oh! hé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1"/>
          <p:cNvSpPr/>
          <p:nvPr/>
        </p:nvSpPr>
        <p:spPr>
          <a:xfrm>
            <a:off x="914400" y="685800"/>
            <a:ext cx="685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h! hé!, oh! hé!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Je m'appelle Houpetta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1"/>
          <p:cNvSpPr/>
          <p:nvPr/>
        </p:nvSpPr>
        <p:spPr>
          <a:xfrm>
            <a:off x="914400" y="685800"/>
            <a:ext cx="6858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h! hé!, oh! hé!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Je m'appelle Houpetta,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etta-ci, petta-là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1"/>
          <p:cNvSpPr/>
          <p:nvPr/>
        </p:nvSpPr>
        <p:spPr>
          <a:xfrm>
            <a:off x="914400" y="685800"/>
            <a:ext cx="6858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h! hé!, oh! hé!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Je m'appelle Houpetta,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etta-ci, petta-là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etta-haut, petta-ba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1"/>
          <p:cNvSpPr/>
          <p:nvPr/>
        </p:nvSpPr>
        <p:spPr>
          <a:xfrm>
            <a:off x="914400" y="685800"/>
            <a:ext cx="6858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h! hé!, oh! hé!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Je m'appelle Houpetta,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etta-ci, petta-là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etta-haut, petta-ba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oupetta-la-bella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1"/>
          <p:cNvSpPr/>
          <p:nvPr/>
        </p:nvSpPr>
        <p:spPr>
          <a:xfrm>
            <a:off x="914400" y="685800"/>
            <a:ext cx="6858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h! hé!, oh! hé!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Je m'appelle Houpetta,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etta-ci, petta-là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etta-haut, petta-ba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oupetta-la-bella,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oupetta-la-bella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"/>
          <p:cNvSpPr/>
          <p:nvPr/>
        </p:nvSpPr>
        <p:spPr>
          <a:xfrm>
            <a:off x="914400" y="685800"/>
            <a:ext cx="68580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h! hé!, oh! hé!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Je m'appelle Houpetta,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etta-ci, petta-là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etta-haut, petta-ba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oupetta-la-bella,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oupetta-la-bella,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oupetta, la mia bella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Box 3"/>
          <p:cNvSpPr/>
          <p:nvPr/>
        </p:nvSpPr>
        <p:spPr>
          <a:xfrm>
            <a:off x="940680" y="685800"/>
            <a:ext cx="6055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Je ne veux pas qu'tu touch'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à mon paquet d' tabac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5"/>
          <p:cNvSpPr/>
          <p:nvPr/>
        </p:nvSpPr>
        <p:spPr>
          <a:xfrm>
            <a:off x="924480" y="6014880"/>
            <a:ext cx="169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0  snuffbo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"/>
          <p:cNvSpPr/>
          <p:nvPr/>
        </p:nvSpPr>
        <p:spPr>
          <a:xfrm>
            <a:off x="914400" y="685800"/>
            <a:ext cx="81532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ans les montagnes en maraude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,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a fille du contrebandier,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r son p'tit ân'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portait en fraude4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u tabac dans son petit panier.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2"/>
          <p:cNvSpPr/>
          <p:nvPr/>
        </p:nvSpPr>
        <p:spPr>
          <a:xfrm>
            <a:off x="919800" y="4495680"/>
            <a:ext cx="1739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 maraud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 smuggl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 donke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 in disgu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5 bask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Box 3"/>
          <p:cNvSpPr/>
          <p:nvPr/>
        </p:nvSpPr>
        <p:spPr>
          <a:xfrm>
            <a:off x="940680" y="685800"/>
            <a:ext cx="6055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Je ne veux pas qu'tu touch'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à mon paquet d' tabac,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Je t'en prie, je n'veux pas,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Box 3"/>
          <p:cNvSpPr/>
          <p:nvPr/>
        </p:nvSpPr>
        <p:spPr>
          <a:xfrm>
            <a:off x="940680" y="685800"/>
            <a:ext cx="60559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Je ne veux pas qu'tu touch'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à mon paquet d' tabac,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Je t'en prie, je n'veux pas,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e n'est pas, ce n'est pa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Box 3"/>
          <p:cNvSpPr/>
          <p:nvPr/>
        </p:nvSpPr>
        <p:spPr>
          <a:xfrm>
            <a:off x="940680" y="685800"/>
            <a:ext cx="60559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Je ne veux pas qu'tu touch'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à mon paquet d' tabac,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Je t'en prie, je n'veux pas,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e n'est pas, ce n'est pa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e n'est pas, ce n'est pa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Box 3"/>
          <p:cNvSpPr/>
          <p:nvPr/>
        </p:nvSpPr>
        <p:spPr>
          <a:xfrm>
            <a:off x="940680" y="685800"/>
            <a:ext cx="60559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Je ne veux pas qu'tu touch'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à mon paquet d' tabac,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Je t'en prie, je n'veux pas,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e n'est pas, ce n'est pa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e n'est pas, ce n'est pa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e n'est pas ta tabatière.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Box 5"/>
          <p:cNvSpPr/>
          <p:nvPr/>
        </p:nvSpPr>
        <p:spPr>
          <a:xfrm>
            <a:off x="924480" y="6014880"/>
            <a:ext cx="169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0  snuffbo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1"/>
          <p:cNvSpPr/>
          <p:nvPr/>
        </p:nvSpPr>
        <p:spPr>
          <a:xfrm>
            <a:off x="914400" y="685800"/>
            <a:ext cx="685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is le douanier lui, il a dit 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1"/>
          <p:cNvSpPr/>
          <p:nvPr/>
        </p:nvSpPr>
        <p:spPr>
          <a:xfrm>
            <a:off x="914400" y="685800"/>
            <a:ext cx="685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is le douanier lui, il a dit :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"je le dois”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914400" y="685800"/>
            <a:ext cx="6858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is le douanier lui, il a dit :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"je le dois"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t tout de suite l'écho répondit 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"/>
          <p:cNvSpPr/>
          <p:nvPr/>
        </p:nvSpPr>
        <p:spPr>
          <a:xfrm>
            <a:off x="914400" y="685800"/>
            <a:ext cx="6858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is le douanier lui, il a dit :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"je le dois"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t tout de suite l'écho répondit 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ien parce qu'il n'avait pas crié assez for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1"/>
          <p:cNvSpPr/>
          <p:nvPr/>
        </p:nvSpPr>
        <p:spPr>
          <a:xfrm>
            <a:off x="914400" y="685800"/>
            <a:ext cx="876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lors forcément elle lui a dit 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Box 2"/>
          <p:cNvSpPr/>
          <p:nvPr/>
        </p:nvSpPr>
        <p:spPr>
          <a:xfrm>
            <a:off x="927000" y="6014880"/>
            <a:ext cx="40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1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se moquer de=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joke wit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"/>
          <p:cNvSpPr/>
          <p:nvPr/>
        </p:nvSpPr>
        <p:spPr>
          <a:xfrm>
            <a:off x="914400" y="685800"/>
            <a:ext cx="8763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lors forcément elle lui a dit :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"ben, le v'la"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Box 2"/>
          <p:cNvSpPr/>
          <p:nvPr/>
        </p:nvSpPr>
        <p:spPr>
          <a:xfrm>
            <a:off x="927000" y="6014880"/>
            <a:ext cx="40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1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se moquer de=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joke wit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"/>
          <p:cNvSpPr/>
          <p:nvPr/>
        </p:nvSpPr>
        <p:spPr>
          <a:xfrm>
            <a:off x="914400" y="685800"/>
            <a:ext cx="7315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lle chantait la ritournelle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2"/>
          <p:cNvSpPr/>
          <p:nvPr/>
        </p:nvSpPr>
        <p:spPr>
          <a:xfrm>
            <a:off x="925560" y="5722920"/>
            <a:ext cx="24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Calibri"/>
              <a:buAutoNum type="arabicPlain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type of mus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"/>
          <p:cNvSpPr/>
          <p:nvPr/>
        </p:nvSpPr>
        <p:spPr>
          <a:xfrm>
            <a:off x="914400" y="685800"/>
            <a:ext cx="87631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lors forcément elle lui a dit :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"ben, le v'la"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is pour s'moquer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11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d'ell'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l répondit 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Box 2"/>
          <p:cNvSpPr/>
          <p:nvPr/>
        </p:nvSpPr>
        <p:spPr>
          <a:xfrm>
            <a:off x="927000" y="6014880"/>
            <a:ext cx="40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1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se moquer de=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joke wit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1"/>
          <p:cNvSpPr/>
          <p:nvPr/>
        </p:nvSpPr>
        <p:spPr>
          <a:xfrm>
            <a:off x="914400" y="685800"/>
            <a:ext cx="87631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lors forcément elle lui a dit :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"ben, le v'la"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is pour s'moquer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11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d'ell'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l répondit :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erci, j'fum'pas"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Box 2"/>
          <p:cNvSpPr/>
          <p:nvPr/>
        </p:nvSpPr>
        <p:spPr>
          <a:xfrm>
            <a:off x="927000" y="6014880"/>
            <a:ext cx="40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1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se moquer de=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joke wit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1"/>
          <p:cNvSpPr/>
          <p:nvPr/>
        </p:nvSpPr>
        <p:spPr>
          <a:xfrm>
            <a:off x="914400" y="685800"/>
            <a:ext cx="685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'est ainsi qu'Houpett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1"/>
          <p:cNvSpPr/>
          <p:nvPr/>
        </p:nvSpPr>
        <p:spPr>
          <a:xfrm>
            <a:off x="914400" y="685800"/>
            <a:ext cx="685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'est ainsi qu'Houpetta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auva tout son tabac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"/>
          <p:cNvSpPr/>
          <p:nvPr/>
        </p:nvSpPr>
        <p:spPr>
          <a:xfrm>
            <a:off x="914400" y="685800"/>
            <a:ext cx="6858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'est ainsi qu'Houpetta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auva tout son tabac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e petit ân' trotta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1"/>
          <p:cNvSpPr/>
          <p:nvPr/>
        </p:nvSpPr>
        <p:spPr>
          <a:xfrm>
            <a:off x="914400" y="685800"/>
            <a:ext cx="6858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'est ainsi qu'Houpetta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auva tout son tabac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e petit ân' trotta,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mmena Houpett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1"/>
          <p:cNvSpPr/>
          <p:nvPr/>
        </p:nvSpPr>
        <p:spPr>
          <a:xfrm>
            <a:off x="914400" y="685800"/>
            <a:ext cx="6858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'est ainsi qu'Houpetta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auva tout son tabac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e petit ân' trotta,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mmena Houpetta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h! ah! ah! ..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"/>
          <p:cNvSpPr/>
          <p:nvPr/>
        </p:nvSpPr>
        <p:spPr>
          <a:xfrm>
            <a:off x="914400" y="685800"/>
            <a:ext cx="7315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lle chantait la ritournelle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Qu'un gars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7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avait faite pour ell'..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2"/>
          <p:cNvSpPr/>
          <p:nvPr/>
        </p:nvSpPr>
        <p:spPr>
          <a:xfrm>
            <a:off x="925560" y="5722920"/>
            <a:ext cx="240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Calibri"/>
              <a:buAutoNum type="arabicPlain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type of mus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lain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gu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1"/>
          <p:cNvSpPr/>
          <p:nvPr/>
        </p:nvSpPr>
        <p:spPr>
          <a:xfrm>
            <a:off x="914400" y="68580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h! hé!,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1"/>
          <p:cNvSpPr/>
          <p:nvPr/>
        </p:nvSpPr>
        <p:spPr>
          <a:xfrm>
            <a:off x="914400" y="685800"/>
            <a:ext cx="7924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h! hé!, oh! hé!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1T13:32:15Z</dcterms:created>
  <dc:creator>Angie</dc:creator>
  <dc:description/>
  <dc:language>en-US</dc:language>
  <cp:lastModifiedBy>Angie</cp:lastModifiedBy>
  <dcterms:modified xsi:type="dcterms:W3CDTF">2011-11-01T14:14:25Z</dcterms:modified>
  <cp:revision>5</cp:revision>
  <dc:subject/>
  <dc:title>Houpetta</dc:title>
</cp:coreProperties>
</file>